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7C76-343E-4553-9874-F4BBC6E0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DC12-60E5-4620-9475-55321A2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5E8F-678A-4F91-AD99-13108141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3F72-1965-4B52-934F-221870F5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2233-877A-415E-966A-2D23C78F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A149-9C3A-4EF1-A2B0-A27219D9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832-F543-4DA0-9F18-F79B96BB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F7A8-B045-4A82-8001-1AC2C6C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7EB7-675C-488C-B5EC-E669F34C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74FC-0DF0-4479-9C2F-51CA88BD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B5F2-028D-41FF-B397-FC9CC76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6798-D106-4734-A91B-894C9059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4343-1049-4AFC-8EE8-15CB55D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3D83-FC0A-4BC4-80EE-4D4008F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5846-20E9-4593-A13E-BD6B534D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D073-29C8-4874-9572-25F5D74D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95BD-5C6D-493C-9E5C-B6B86C80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264F-B692-4EEF-BDA2-77B3F0A3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EA45-74CC-4DB1-8439-A934A2F3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BC07-4257-4F01-A2A9-15E2458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1F9D-37BF-476D-851C-85F552E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9F2B-0501-4823-BFA9-2F445C49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1DC9-3214-4ED6-A41C-39D05C75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074E-9C3E-4EB0-B762-3B85DF9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11EE-0E34-4CA3-A15C-E3D6088E3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8A0D-509C-480F-B6CD-044FC20CF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da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este şi cum funcţionează motorul ter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de motoare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55:20Z</dcterms:modified>
  <cp:revision>7</cp:revision>
  <dc:subject/>
  <dc:title>Petrolul mişcă omenirea</dc:title>
</cp:coreProperties>
</file>